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B91-5019-4D28-8A4F-BA781E30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C51-B9ED-44FD-A4B7-35F45B61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B76-33F6-4531-9F86-93327288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C6A-F8FD-4538-8EA2-A7645158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DEEC-0A8F-4723-973A-64C67B93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162C-76D6-40E4-9AC0-3CEF5509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4483-0B5A-4608-94A9-E123867B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FA67-084D-4747-BAB0-BFFB4702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FFAF-1531-4783-A83C-11858E8E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9199-F219-498C-B61B-8EF35EF6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F242-EE48-41CE-A132-30DD2C44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1ED-4B57-40EB-BE5F-02614793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73DB-0433-4443-913F-E5AC5905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152F-4E73-440D-8B29-9B5F4150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5DCF-4EDA-4DB7-B6E5-0E9F34DA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7FC7-9822-4CD0-8524-294D12AC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0D16-559C-437C-84EB-1D1FFA04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A2AE5-3CC6-48A4-9708-EB6CBBF6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92003-B2B6-4204-9042-0F9D461F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2D843-A2C5-4136-BD0D-D54C111C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85114-A84B-410D-BC1B-0B4E46BF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5798-DC83-4BD5-93C4-0E63A8CF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978-2A5A-417F-A53D-E415B3DC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535A4-25B0-43EE-B4F5-32AF4FF4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D29A9-A3B9-4C7D-A685-8FF4D32F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A45F1-69D5-4119-AD94-6A7BEB1D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789C-F0A9-4966-BAE5-C3990DE7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4654-1B90-4B8D-85AB-1FE3DE3C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46BA5-D4B6-45E3-95F3-6A91EFA1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12F7-785C-420D-BDFF-8475E4D6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5F2E1-0B4E-43B4-A465-E8FAFFDE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988E6-897F-459F-B4FB-D251B565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1AB4D-A713-4B4A-A98C-AC8D0A73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205-B103-4BB2-99CA-C0543DB9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F3FC5-B515-4A72-8BF9-65153B14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E3677-5B6F-4239-894C-FDB7382F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FAB6F-C525-42C2-AAA0-23DCFC83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602B3-1967-43A1-B8EC-99199C96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EAB4-F4E9-45BA-BB36-A1366F65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A21FD-887B-4305-B084-C182B77D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D9A2E-47AA-4962-B89B-6C10F825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C6242-B44D-46B6-874E-E4133FD1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1BF70-D1BE-4E75-8BC6-C51F0834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F1324-B892-4157-A093-E9C995AA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7D2-AFDD-4DA7-94EE-9E8C0B2E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6077D-E9B7-47CA-BA95-A38953E2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C06EF-4459-4434-BFBF-81FB2E1C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D86DF-D999-407E-BC07-A6DB1E7B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E7987-C9D3-47BF-A680-44AB1606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26411-9B5B-48C3-A7A9-10B0B59A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A57D9-D38B-4740-9C29-32E6A03C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ED554-F6E7-47E1-A759-6136C145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6595A-DA7D-4993-960B-16C26E48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DD6C8-4F18-41F4-9AD3-9EF44D65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44957-25AB-492F-8C1D-202B68C9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072-2391-4544-A49E-020E839E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3A164-A2A7-4C5F-9B10-504DE295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C7F92-C9EF-4220-8E56-C339A719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23D92-5F0A-431F-BD19-A0D7EC4A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C96FA-65D1-44AD-9CD5-853BBF51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F00F3-17A5-4115-882D-A623469B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ABC96-6C66-414F-82D3-E778F165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D5E41-9DAA-4262-8F8D-AC47BFC4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2F90C-35A7-405A-8782-590DB7B9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C635C-7DA2-4CE9-BD22-C5BDF440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630F2-46BD-4A62-B295-E3621882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216-C68E-449E-80AC-CF771420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22192-252B-4A51-9F9D-CE6F65E6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E8D50-6719-49DE-BB69-0D8D8CC2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37371-C2D1-4EBB-9B4E-C42A24FF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CF239-BFB7-43D7-91A2-8577B414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00CB3-0EEA-46AE-8324-325BE812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45840-062C-49DD-A152-01B35F0B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E50FA-1668-4651-80C2-33C2E22B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0C964-7519-4AB3-AFAA-BBA28173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791D9-6F5E-4743-8C23-33ECD20B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888D4-184E-497A-84B2-E0DEEA9B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D0D-F816-4D0C-838F-F9B93AD2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66A36-8FAB-4A0B-A228-0BC1EDEA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AC9DB-77A8-4451-9394-598A0743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6B2A4-2ADF-4CE5-ABA0-EB29A296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FF353-1DFD-4EEE-9CF7-5218186D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CE289-2F3E-4FDA-AF95-BC0C4FEF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D2869-4355-4CDE-9360-6D644D21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A3C63-9F7D-4EB5-B983-CA0F5D0B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58FBC-3C9C-4FF5-BCD8-112C703D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4A6F9-FDF4-4C57-BC80-5E0F1690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56E71-AFFC-40F1-A1E2-38E94C0B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5CFB-491A-4A66-908D-5CB8C01B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E344D-562F-426F-AA46-24D0CC7C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1A3C4-DF17-4D2E-BDF4-E0F00AA2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070E3-EC3F-40A3-92A6-0824B026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B13AA-1BBC-470D-B621-FEC2F158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9727D-BC50-43EC-AF55-AAF3064E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1484E-D384-435B-8F65-6D216307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21C85-6094-4914-AB8E-707FAEC3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F3DB-3FB5-4FC8-96D0-C2C7A102C98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6A3B-2019-4C8B-8FC9-C34A091DA04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25DE-2123-49DB-A407-47BFA481888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185C-7CC5-4607-9BC3-6F6E21BFDA9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9B5A-EC3A-4BD6-8DF3-14FF9531E51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9F00-CB10-4D99-B1D0-D80D81442E4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0386-A0B4-4A31-A83B-2A4E0AA8CB4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1F8E-7047-4307-B7B2-3893B34031D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to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ikispaces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3"/>
          <a:stretch/>
        </p:blipFill>
        <p:spPr>
          <a:xfrm>
            <a:off x="838080" y="2362320"/>
            <a:ext cx="594360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l in Username, Password, Emai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5943600" cy="4260600"/>
          </a:xfrm>
          <a:prstGeom prst="rect">
            <a:avLst/>
          </a:prstGeom>
          <a:ln w="0">
            <a:noFill/>
          </a:ln>
        </p:spPr>
      </p:pic>
      <p:cxnSp>
        <p:nvCxnSpPr>
          <p:cNvPr id="378" name="Straight Arrow Connector 6"/>
          <p:cNvCxnSpPr/>
          <p:nvPr/>
        </p:nvCxnSpPr>
        <p:spPr>
          <a:xfrm>
            <a:off x="2361240" y="1905120"/>
            <a:ext cx="2515320" cy="25912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l in username, password, emai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no to make a wiki. Click jo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7315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your username at 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5943600" cy="4260600"/>
          </a:xfrm>
          <a:prstGeom prst="rect">
            <a:avLst/>
          </a:prstGeom>
          <a:ln w="0">
            <a:noFill/>
          </a:ln>
        </p:spPr>
      </p:pic>
      <p:cxnSp>
        <p:nvCxnSpPr>
          <p:cNvPr id="385" name="Straight Arrow Connector 5"/>
          <p:cNvCxnSpPr/>
          <p:nvPr/>
        </p:nvCxnSpPr>
        <p:spPr>
          <a:xfrm>
            <a:off x="1523520" y="1981080"/>
            <a:ext cx="2667960" cy="1905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oose your class as a favorite wik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5943600" cy="4110120"/>
          </a:xfrm>
          <a:prstGeom prst="rect">
            <a:avLst/>
          </a:prstGeom>
          <a:ln w="0">
            <a:noFill/>
          </a:ln>
        </p:spPr>
      </p:pic>
      <p:cxnSp>
        <p:nvCxnSpPr>
          <p:cNvPr id="389" name="Straight Arrow Connector 5"/>
          <p:cNvCxnSpPr/>
          <p:nvPr/>
        </p:nvCxnSpPr>
        <p:spPr>
          <a:xfrm flipH="1">
            <a:off x="4343040" y="2057040"/>
            <a:ext cx="1753200" cy="19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your class wiki na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5943600" cy="3504960"/>
          </a:xfrm>
          <a:prstGeom prst="rect">
            <a:avLst/>
          </a:prstGeom>
          <a:ln w="0">
            <a:noFill/>
          </a:ln>
        </p:spPr>
      </p:pic>
      <p:cxnSp>
        <p:nvCxnSpPr>
          <p:cNvPr id="393" name="Straight Arrow Connector 5"/>
          <p:cNvCxnSpPr/>
          <p:nvPr/>
        </p:nvCxnSpPr>
        <p:spPr>
          <a:xfrm flipH="1">
            <a:off x="2666160" y="1980000"/>
            <a:ext cx="1677240" cy="839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Join This Wiki to become a memb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5943600" cy="4109760"/>
          </a:xfrm>
          <a:prstGeom prst="rect">
            <a:avLst/>
          </a:prstGeom>
          <a:ln w="0">
            <a:noFill/>
          </a:ln>
        </p:spPr>
      </p:pic>
      <p:cxnSp>
        <p:nvCxnSpPr>
          <p:cNvPr id="397" name="Straight Arrow Connector 5"/>
          <p:cNvCxnSpPr/>
          <p:nvPr/>
        </p:nvCxnSpPr>
        <p:spPr>
          <a:xfrm>
            <a:off x="2133720" y="1828800"/>
            <a:ext cx="457920" cy="1905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it for Vicki to approve you as a member of our class wiki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1447920" y="2747880"/>
            <a:ext cx="59436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8:46:04Z</dcterms:created>
  <dc:creator> </dc:creator>
  <dc:description/>
  <dc:language>en-US</dc:language>
  <cp:lastModifiedBy> </cp:lastModifiedBy>
  <dcterms:modified xsi:type="dcterms:W3CDTF">2010-08-29T19:36:48Z</dcterms:modified>
  <cp:revision>1</cp:revision>
  <dc:subject/>
  <dc:title>Wikispaces Accounts</dc:title>
</cp:coreProperties>
</file>